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0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3.wmf" ContentType="image/x-wmf"/>
  <Override PartName="/ppt/media/image8.jpeg" ContentType="image/jpeg"/>
  <Override PartName="/ppt/media/image11.wmf" ContentType="image/x-wmf"/>
  <Override PartName="/ppt/media/image10.wmf" ContentType="image/x-wmf"/>
  <Override PartName="/ppt/media/image4.jpeg" ContentType="image/jpeg"/>
  <Override PartName="/ppt/media/image25.png" ContentType="image/png"/>
  <Override PartName="/ppt/media/image7.jpeg" ContentType="image/jpeg"/>
  <Override PartName="/ppt/media/image12.wmf" ContentType="image/x-wmf"/>
  <Override PartName="/ppt/media/image6.jpeg" ContentType="image/jpeg"/>
  <Override PartName="/ppt/media/image9.wmf" ContentType="image/x-wmf"/>
  <Override PartName="/ppt/media/image5.jpeg" ContentType="image/jpeg"/>
  <Override PartName="/ppt/media/image20.wmf" ContentType="image/x-wmf"/>
  <Override PartName="/ppt/media/image26.jpeg" ContentType="image/jpeg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18.gif" ContentType="image/gif"/>
  <Override PartName="/ppt/media/image17.wmf" ContentType="image/x-wmf"/>
  <Override PartName="/ppt/media/image16.jpeg" ContentType="image/jpeg"/>
  <Override PartName="/ppt/media/image15.wmf" ContentType="image/x-wmf"/>
  <Override PartName="/ppt/media/image14.wmf" ContentType="image/x-wmf"/>
  <Override PartName="/ppt/media/image24.png" ContentType="image/png"/>
  <Override PartName="/ppt/media/image1.png" ContentType="image/png"/>
  <Override PartName="/ppt/media/image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E7959-947C-4AEC-85D1-ECF5C295D46E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body"/>
          </p:nvPr>
        </p:nvSpPr>
        <p:spPr>
          <a:xfrm>
            <a:off x="304920" y="4571640"/>
            <a:ext cx="6248160" cy="3962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304920" y="4419720"/>
            <a:ext cx="6324480" cy="4419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6840" y="4343040"/>
            <a:ext cx="6095880" cy="4343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1143000" y="4267080"/>
            <a:ext cx="4495680" cy="4648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7" name="PlaceHolder 2"/>
          <p:cNvSpPr>
            <a:spLocks noGrp="1"/>
          </p:cNvSpPr>
          <p:nvPr>
            <p:ph type="body"/>
          </p:nvPr>
        </p:nvSpPr>
        <p:spPr>
          <a:xfrm>
            <a:off x="914040" y="4343400"/>
            <a:ext cx="5181480" cy="4495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We’re growing (one-third) over the past decade, however, demographically we’re staying relatively in the same proportion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opulation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70 =  7,157 (budget)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8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8,746 (budget) (22.2% incr from 197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Times New Roman"/>
              <a:buAutoNum type="arabicPlain" startAt="1990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 9,110 (census- budget) (4.2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12,019 (census) (31.9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ousing tota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80 = 3,311 (community developme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90 = 3,619 (community development) (9.3% incr from 198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00 = 4,825 (census data) (33.3% incr from 1990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69B0C-790B-428E-8F24-506C84DB5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7A0B3-1059-480D-BA21-1D7143647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B9BC9-CB80-4CF0-96FA-50CFC23D2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7C020-1F48-44C1-8AAA-010DC78133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1EB5F-012F-4B17-A6A5-8B025DC466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DFD0-D431-4C96-B23C-2C74DBD03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A25F82-3644-49A9-BACB-1BA420C42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45D1-56C5-49D3-A189-864C57BB72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090B-3405-4A0D-BA56-EC282CB6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30CBA-612D-4256-8691-C2B726D6E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3B04E9-E3D9-41F6-BBC2-55F0CBC81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944A-6BBC-44CC-B97F-569291940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4D6D0-5CBA-45DE-9577-D46421FA7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02185-C926-4AA6-A656-DBE20AE97F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E5032-CA51-4408-AC6E-D4C301291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03DD94-F591-4882-8E04-35E50FE6B8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464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5600" y="228600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0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464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5600" y="4196520"/>
            <a:ext cx="242892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9A56D-6F8E-4A58-8AD8-751025DE3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9C73-9C6E-4A2A-B4C5-C75E55C3B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C9C83-657D-462F-9581-D99A1C2B1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79B3-3781-47E8-B6AB-A9FF2410E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6091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B5735-39F3-4397-B80A-4DBB55E2A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A7C3A-9491-4BF4-B26F-18382D9BD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9720" y="419652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7C07-4433-4237-A442-70602EAA1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9720" y="2286000"/>
            <a:ext cx="368136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040" y="4196520"/>
            <a:ext cx="7543800" cy="174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77A7-933E-4EFF-AA3E-44C25C878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14040" y="6091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914040" y="2286000"/>
            <a:ext cx="754380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2000"/>
          </a:bodyPr>
          <a:p>
            <a:pPr marL="246960" indent="-24696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534960" indent="-20556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822960" indent="-1645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152000" indent="-16452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16452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27751-5D98-44CD-AE62-99C6FDC7805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8080"/>
              </a:gs>
              <a:gs pos="100000">
                <a:srgbClr val="b098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27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399f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6629400" y="6095520"/>
            <a:ext cx="2286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ftr" idx="5"/>
          </p:nvPr>
        </p:nvSpPr>
        <p:spPr>
          <a:xfrm>
            <a:off x="2285640" y="6095880"/>
            <a:ext cx="4343400" cy="53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sldNum" idx="6"/>
          </p:nvPr>
        </p:nvSpPr>
        <p:spPr>
          <a:xfrm>
            <a:off x="6629400" y="640044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83F35-A64B-4B42-8341-0E1332AFD1AE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13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lnSpc>
                <a:spcPct val="75000"/>
              </a:lnSpc>
              <a:spcBef>
                <a:spcPts val="751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lnSpc>
                <a:spcPct val="75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image" Target="../media/image20.wmf"/><Relationship Id="rId4" Type="http://schemas.openxmlformats.org/officeDocument/2006/relationships/slideLayout" Target="../slideLayouts/slideLayout3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jpe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3886200" y="380880"/>
          <a:ext cx="4572000" cy="4164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86200" y="380880"/>
                    <a:ext cx="4572000" cy="4164120"/>
                  </a:xfrm>
                  <a:prstGeom prst="rect">
                    <a:avLst/>
                  </a:prstGeom>
                  <a:ln w="76320">
                    <a:solidFill>
                      <a:srgbClr val="b098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609480" y="4768560"/>
            <a:ext cx="4800600" cy="1477080"/>
          </a:xfrm>
          <a:prstGeom prst="rect">
            <a:avLst/>
          </a:prstGeom>
          <a:solidFill>
            <a:srgbClr val="827c66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</a:rPr>
              <a:t>2001 Citizen Survey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895480" y="1523880"/>
            <a:ext cx="518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eel the City is well-manage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219320" y="1371600"/>
            <a:ext cx="1600200" cy="10666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5.5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990720" y="266688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ow well does the City Government operat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1066680" y="2971800"/>
          <a:ext cx="7086600" cy="3524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6680" y="2971800"/>
                    <a:ext cx="7086600" cy="3524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7" name=""/>
          <p:cNvSpPr/>
          <p:nvPr/>
        </p:nvSpPr>
        <p:spPr>
          <a:xfrm>
            <a:off x="6781680" y="3505320"/>
            <a:ext cx="129564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.5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629400" y="4419720"/>
            <a:ext cx="1295280" cy="641160"/>
          </a:xfrm>
          <a:prstGeom prst="rect">
            <a:avLst/>
          </a:prstGeom>
          <a:solidFill>
            <a:srgbClr val="808000"/>
          </a:solidFill>
          <a:ln w="19080">
            <a:solidFill>
              <a:srgbClr val="827c66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.4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/>
          </p:nvPr>
        </p:nvSpPr>
        <p:spPr>
          <a:xfrm>
            <a:off x="685800" y="60912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ublic Safet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1371600" y="2971800"/>
            <a:ext cx="541008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Police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2438280" y="1676520"/>
            <a:ext cx="55627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overall quality of Fire/EMS service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143000" y="6019920"/>
            <a:ext cx="7086600" cy="5806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1996 survey Fire/EMS 100%, Police 94.3%, Felt safe 92%.                  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685800" y="1600200"/>
            <a:ext cx="1535040" cy="106992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750000"/>
              </a:gs>
              <a:gs pos="50000">
                <a:srgbClr val="ff0000"/>
              </a:gs>
              <a:gs pos="100000">
                <a:srgbClr val="750000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9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162920" y="29718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00003b"/>
              </a:gs>
              <a:gs pos="50000">
                <a:srgbClr val="000080"/>
              </a:gs>
              <a:gs pos="100000">
                <a:srgbClr val="00003b"/>
              </a:gs>
            </a:gsLst>
            <a:lin ang="5400000"/>
          </a:gradFill>
          <a:ln w="22320">
            <a:solidFill>
              <a:srgbClr val="827c66"/>
            </a:solidFill>
            <a:miter/>
          </a:ln>
          <a:effectLst>
            <a:outerShdw dist="17819" dir="2700000" blurRad="0" rotWithShape="0">
              <a:srgbClr val="4d4a3c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2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438280" y="4343400"/>
            <a:ext cx="60199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tate that they feel safe or very safe in the City of Maitlan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762120" y="434340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25560">
            <a:solidFill>
              <a:srgbClr val="996633"/>
            </a:solidFill>
            <a:miter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1.8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/>
          </p:nvPr>
        </p:nvSpPr>
        <p:spPr>
          <a:xfrm>
            <a:off x="685800" y="5331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Park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19520" y="1523880"/>
            <a:ext cx="571500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ate the appearance of Maitland Parks as good or very good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09480" y="1523880"/>
            <a:ext cx="2143080" cy="1067040"/>
          </a:xfrm>
          <a:custGeom>
            <a:avLst/>
            <a:gdLst>
              <a:gd name="textAreaLeft" fmla="*/ 535680 w 2143080"/>
              <a:gd name="textAreaRight" fmla="*/ 1607400 w 2143080"/>
              <a:gd name="textAreaTop" fmla="*/ 0 h 1067040"/>
              <a:gd name="textAreaBottom" fmla="*/ 933840 h 106704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gradFill rotWithShape="0">
            <a:gsLst>
              <a:gs pos="0">
                <a:srgbClr val="003b00"/>
              </a:gs>
              <a:gs pos="50000">
                <a:srgbClr val="008000"/>
              </a:gs>
              <a:gs pos="100000">
                <a:srgbClr val="003b00"/>
              </a:gs>
            </a:gsLst>
            <a:lin ang="5400000"/>
          </a:gra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95.6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066680" y="3124080"/>
            <a:ext cx="31244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92.3%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rated the quality of Maitland Parks as good or very good in 1996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82" name="cc-mastplan26" descr=""/>
          <p:cNvPicPr/>
          <p:nvPr/>
        </p:nvPicPr>
        <p:blipFill>
          <a:blip r:embed="rId1"/>
          <a:stretch/>
        </p:blipFill>
        <p:spPr>
          <a:xfrm>
            <a:off x="4343400" y="2666880"/>
            <a:ext cx="3581280" cy="2686320"/>
          </a:xfrm>
          <a:prstGeom prst="rect">
            <a:avLst/>
          </a:prstGeom>
          <a:ln w="57240">
            <a:solidFill>
              <a:srgbClr val="827c66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1447920" y="5486400"/>
            <a:ext cx="65530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More survey results to be discussed later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5" name=""/>
          <p:cNvGraphicFramePr/>
          <p:nvPr/>
        </p:nvGraphicFramePr>
        <p:xfrm>
          <a:off x="304920" y="1371600"/>
          <a:ext cx="8076960" cy="47451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8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1371600"/>
                    <a:ext cx="8076960" cy="474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685800" y="45684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Cultura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143000" y="1447920"/>
            <a:ext cx="6858000" cy="4291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ultural Groups Satisfaction Comparison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696080" y="2286000"/>
            <a:ext cx="1447920" cy="682560"/>
          </a:xfrm>
          <a:prstGeom prst="rect">
            <a:avLst/>
          </a:prstGeom>
          <a:solidFill>
            <a:srgbClr val="008080"/>
          </a:solidFill>
          <a:ln w="0">
            <a:noFill/>
          </a:ln>
          <a:effectLst>
            <a:outerShdw dist="17819" dir="2700000" blurRad="0" rotWithShape="0">
              <a:srgbClr val="004c4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21.3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96080" y="3276720"/>
            <a:ext cx="1447920" cy="642600"/>
          </a:xfrm>
          <a:prstGeom prst="rect">
            <a:avLst/>
          </a:prstGeom>
          <a:solidFill>
            <a:srgbClr val="808000"/>
          </a:solidFill>
          <a:ln w="0">
            <a:noFill/>
          </a:ln>
          <a:effectLst>
            <a:outerShdw dist="17819" dir="2700000" blurRad="0" rotWithShape="0">
              <a:srgbClr val="4c4c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35.6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7467480" y="4191120"/>
            <a:ext cx="1371600" cy="642600"/>
          </a:xfrm>
          <a:prstGeom prst="rect">
            <a:avLst/>
          </a:prstGeom>
          <a:solidFill>
            <a:srgbClr val="800000"/>
          </a:solidFill>
          <a:ln w="0">
            <a:noFill/>
          </a:ln>
          <a:effectLst>
            <a:outerShdw dist="17819" dir="2700000" blurRad="0" rotWithShape="0">
              <a:srgbClr val="4c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001 8.7% no opinio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1066680" y="108504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their drinking water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685800" y="4495680"/>
            <a:ext cx="5562720" cy="2041560"/>
            <a:chOff x="685800" y="4495680"/>
            <a:chExt cx="5562720" cy="2041560"/>
          </a:xfrm>
        </p:grpSpPr>
        <p:sp>
          <p:nvSpPr>
            <p:cNvPr id="195" name=""/>
            <p:cNvSpPr/>
            <p:nvPr/>
          </p:nvSpPr>
          <p:spPr>
            <a:xfrm>
              <a:off x="6858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5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6858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47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685800" y="61066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2.7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86000" y="610812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4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286000" y="493488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3.2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286000" y="5520960"/>
              <a:ext cx="1219320" cy="429120"/>
            </a:xfrm>
            <a:prstGeom prst="rect">
              <a:avLst/>
            </a:prstGeom>
            <a:solidFill>
              <a:srgbClr val="827c66"/>
            </a:solidFill>
            <a:ln w="38160">
              <a:solidFill>
                <a:srgbClr val="399ff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38.8%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621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2001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362320" y="4495680"/>
              <a:ext cx="10666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1996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3581640" y="493488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57600" y="55209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581640" y="610812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206" name="ag00180_" descr=""/>
          <p:cNvPicPr/>
          <p:nvPr/>
        </p:nvPicPr>
        <p:blipFill>
          <a:blip r:embed="rId1"/>
          <a:stretch/>
        </p:blipFill>
        <p:spPr>
          <a:xfrm>
            <a:off x="838080" y="2057400"/>
            <a:ext cx="2210040" cy="1284120"/>
          </a:xfrm>
          <a:prstGeom prst="rect">
            <a:avLst/>
          </a:prstGeom>
          <a:ln w="0">
            <a:noFill/>
          </a:ln>
        </p:spPr>
      </p:pic>
      <p:grpSp>
        <p:nvGrpSpPr>
          <p:cNvPr id="207" name=""/>
          <p:cNvGrpSpPr/>
          <p:nvPr/>
        </p:nvGrpSpPr>
        <p:grpSpPr>
          <a:xfrm>
            <a:off x="2819520" y="1600200"/>
            <a:ext cx="5715000" cy="2105280"/>
            <a:chOff x="2819520" y="1600200"/>
            <a:chExt cx="5715000" cy="2105280"/>
          </a:xfrm>
        </p:grpSpPr>
        <p:grpSp>
          <p:nvGrpSpPr>
            <p:cNvPr id="208" name=""/>
            <p:cNvGrpSpPr/>
            <p:nvPr/>
          </p:nvGrpSpPr>
          <p:grpSpPr>
            <a:xfrm>
              <a:off x="5715000" y="1600200"/>
              <a:ext cx="2819520" cy="2105280"/>
              <a:chOff x="5715000" y="1600200"/>
              <a:chExt cx="2819520" cy="2105280"/>
            </a:xfrm>
          </p:grpSpPr>
          <p:sp>
            <p:nvSpPr>
              <p:cNvPr id="209" name=""/>
              <p:cNvSpPr/>
              <p:nvPr/>
            </p:nvSpPr>
            <p:spPr>
              <a:xfrm>
                <a:off x="57150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8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57150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1.1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57150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5.3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7315200" y="327636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.8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7315200" y="205704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9.5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7315200" y="2666880"/>
                <a:ext cx="1219320" cy="429120"/>
              </a:xfrm>
              <a:prstGeom prst="rect">
                <a:avLst/>
              </a:prstGeom>
              <a:solidFill>
                <a:srgbClr val="827c66"/>
              </a:solidFill>
              <a:ln w="38160">
                <a:solidFill>
                  <a:srgbClr val="399ff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44.9%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7913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2001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7391520" y="1600200"/>
                <a:ext cx="1066680" cy="429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137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ffffff"/>
                    </a:solidFill>
                    <a:latin typeface="Arial"/>
                  </a:rPr>
                  <a:t>1996</a:t>
                </a:r>
                <a:endParaRPr b="0" lang="en-US" sz="22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3429000" y="213336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Very 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429000" y="2743200"/>
              <a:ext cx="20574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Good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2819520" y="3276360"/>
              <a:ext cx="26668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200" spc="-1" strike="noStrike">
                  <a:solidFill>
                    <a:srgbClr val="ffffff"/>
                  </a:solidFill>
                  <a:latin typeface="Arial"/>
                </a:rPr>
                <a:t>Poor/Very Poor</a:t>
              </a:r>
              <a:endParaRPr b="0" lang="en-US" sz="2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20" name=""/>
          <p:cNvSpPr/>
          <p:nvPr/>
        </p:nvSpPr>
        <p:spPr>
          <a:xfrm>
            <a:off x="1066680" y="3904560"/>
            <a:ext cx="7315200" cy="44424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Residents rate the quality of Maitland lak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85800" y="22860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Wa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019920" y="4800600"/>
            <a:ext cx="2819160" cy="785520"/>
          </a:xfrm>
          <a:prstGeom prst="rect">
            <a:avLst/>
          </a:prstGeom>
          <a:gradFill rotWithShape="0">
            <a:gsLst>
              <a:gs pos="0">
                <a:srgbClr val="1a4973"/>
              </a:gs>
              <a:gs pos="50000">
                <a:srgbClr val="399ffb"/>
              </a:gs>
              <a:gs pos="100000">
                <a:srgbClr val="1a4973"/>
              </a:gs>
            </a:gsLst>
            <a:lin ang="5400000"/>
          </a:gra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 opinion         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 14.5% ,1996 25.8%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019920" y="5867280"/>
            <a:ext cx="28191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457200" indent="-457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/>
          </p:nvPr>
        </p:nvSpPr>
        <p:spPr>
          <a:xfrm>
            <a:off x="2819160" y="533520"/>
            <a:ext cx="6019560" cy="76176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Services – Stree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25" name=""/>
          <p:cNvGraphicFramePr/>
          <p:nvPr/>
        </p:nvGraphicFramePr>
        <p:xfrm>
          <a:off x="0" y="1447920"/>
          <a:ext cx="8686800" cy="4383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447920"/>
                    <a:ext cx="8686800" cy="4383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7" name=""/>
          <p:cNvSpPr/>
          <p:nvPr/>
        </p:nvSpPr>
        <p:spPr>
          <a:xfrm>
            <a:off x="7086600" y="1828800"/>
            <a:ext cx="1676520" cy="590400"/>
          </a:xfrm>
          <a:prstGeom prst="rect">
            <a:avLst/>
          </a:prstGeom>
          <a:solidFill>
            <a:srgbClr val="80800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Poor/Very Poor 5.7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467480" y="2819520"/>
            <a:ext cx="1752840" cy="609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4.2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162920" y="3886200"/>
            <a:ext cx="1752480" cy="590400"/>
          </a:xfrm>
          <a:prstGeom prst="rect">
            <a:avLst/>
          </a:prstGeom>
          <a:solidFill>
            <a:srgbClr val="008080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2001 Poor/Very Poor 8.3%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715000" y="5486400"/>
            <a:ext cx="1371600" cy="52848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Very 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733920" y="5562720"/>
            <a:ext cx="1218960" cy="452160"/>
          </a:xfrm>
          <a:prstGeom prst="rect">
            <a:avLst/>
          </a:prstGeom>
          <a:solidFill>
            <a:srgbClr val="800000"/>
          </a:solidFill>
          <a:ln w="936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Good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4800240"/>
            <a:ext cx="0" cy="76212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6400800" y="4800240"/>
            <a:ext cx="0" cy="685800"/>
          </a:xfrm>
          <a:prstGeom prst="line">
            <a:avLst/>
          </a:prstGeom>
          <a:ln w="255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4" name="bd05679_" descr=""/>
          <p:cNvPicPr/>
          <p:nvPr/>
        </p:nvPicPr>
        <p:blipFill>
          <a:blip r:embed="rId3"/>
          <a:stretch/>
        </p:blipFill>
        <p:spPr>
          <a:xfrm>
            <a:off x="762120" y="304920"/>
            <a:ext cx="1676160" cy="1622160"/>
          </a:xfrm>
          <a:prstGeom prst="rect">
            <a:avLst/>
          </a:prstGeom>
          <a:ln w="0">
            <a:noFill/>
          </a:ln>
        </p:spPr>
      </p:pic>
      <p:sp>
        <p:nvSpPr>
          <p:cNvPr id="235" name=""/>
          <p:cNvSpPr/>
          <p:nvPr/>
        </p:nvSpPr>
        <p:spPr>
          <a:xfrm>
            <a:off x="1828800" y="624852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/>
          </p:nvPr>
        </p:nvSpPr>
        <p:spPr>
          <a:xfrm>
            <a:off x="685800" y="30456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Electric Reliability and Undergroundi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37" name=""/>
          <p:cNvGraphicFramePr/>
          <p:nvPr/>
        </p:nvGraphicFramePr>
        <p:xfrm>
          <a:off x="762120" y="1295280"/>
          <a:ext cx="7238880" cy="360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295280"/>
                    <a:ext cx="7238880" cy="360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9" name=""/>
          <p:cNvSpPr/>
          <p:nvPr/>
        </p:nvSpPr>
        <p:spPr>
          <a:xfrm>
            <a:off x="990720" y="1295280"/>
            <a:ext cx="7238880" cy="459720"/>
          </a:xfrm>
          <a:prstGeom prst="rect">
            <a:avLst/>
          </a:prstGeom>
          <a:solidFill>
            <a:srgbClr val="800000"/>
          </a:solidFill>
          <a:ln w="158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liability of  Electricit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772400" y="2057400"/>
            <a:ext cx="99072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934320" y="3048120"/>
            <a:ext cx="1066680" cy="457200"/>
          </a:xfrm>
          <a:prstGeom prst="rect">
            <a:avLst/>
          </a:prstGeom>
          <a:solidFill>
            <a:srgbClr val="b09800"/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4876560" y="3123720"/>
            <a:ext cx="2057400" cy="457560"/>
            <a:chOff x="4876560" y="3123720"/>
            <a:chExt cx="2057400" cy="457560"/>
          </a:xfrm>
        </p:grpSpPr>
        <p:sp>
          <p:nvSpPr>
            <p:cNvPr id="243" name=""/>
            <p:cNvSpPr/>
            <p:nvPr/>
          </p:nvSpPr>
          <p:spPr>
            <a:xfrm flipH="1">
              <a:off x="4876560" y="3276360"/>
              <a:ext cx="2057400" cy="3049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 flipH="1" flipV="1">
              <a:off x="5867280" y="3123720"/>
              <a:ext cx="106668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45" name=""/>
          <p:cNvGrpSpPr/>
          <p:nvPr/>
        </p:nvGrpSpPr>
        <p:grpSpPr>
          <a:xfrm>
            <a:off x="3962160" y="2133360"/>
            <a:ext cx="3810240" cy="533160"/>
            <a:chOff x="3962160" y="2133360"/>
            <a:chExt cx="3810240" cy="533160"/>
          </a:xfrm>
        </p:grpSpPr>
        <p:sp>
          <p:nvSpPr>
            <p:cNvPr id="246" name=""/>
            <p:cNvSpPr/>
            <p:nvPr/>
          </p:nvSpPr>
          <p:spPr>
            <a:xfrm flipH="1">
              <a:off x="3962160" y="2286000"/>
              <a:ext cx="3809880" cy="38052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 flipH="1" flipV="1">
              <a:off x="6858000" y="2133360"/>
              <a:ext cx="914400" cy="152280"/>
            </a:xfrm>
            <a:prstGeom prst="line">
              <a:avLst/>
            </a:prstGeom>
            <a:ln w="25560">
              <a:solidFill>
                <a:srgbClr val="8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48" name=""/>
          <p:cNvSpPr/>
          <p:nvPr/>
        </p:nvSpPr>
        <p:spPr>
          <a:xfrm>
            <a:off x="457200" y="4952880"/>
            <a:ext cx="2743200" cy="703800"/>
          </a:xfrm>
          <a:prstGeom prst="rect">
            <a:avLst/>
          </a:prstGeom>
          <a:solidFill>
            <a:srgbClr val="827c66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to bury utility lines throughout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5943600"/>
            <a:ext cx="2743200" cy="703800"/>
          </a:xfrm>
          <a:prstGeom prst="rect">
            <a:avLst/>
          </a:prstGeom>
          <a:solidFill>
            <a:srgbClr val="b09800"/>
          </a:solidFill>
          <a:ln w="7632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upport if it meant an increase in tax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581280" y="5791320"/>
            <a:ext cx="5181840" cy="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324480" y="5181480"/>
            <a:ext cx="0" cy="1295640"/>
          </a:xfrm>
          <a:prstGeom prst="line">
            <a:avLst/>
          </a:prstGeom>
          <a:ln w="381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43434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2001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7086600" y="4572000"/>
            <a:ext cx="1143000" cy="366840"/>
          </a:xfrm>
          <a:prstGeom prst="rect">
            <a:avLst/>
          </a:prstGeom>
          <a:solidFill>
            <a:srgbClr val="808000"/>
          </a:solidFill>
          <a:ln w="284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996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429000" y="5241960"/>
            <a:ext cx="2743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70.7%  No 18.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400800" y="525780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65%  No 19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429000" y="6095880"/>
            <a:ext cx="2819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5.6%  No 32.1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400800" y="6095880"/>
            <a:ext cx="266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Yes 53%  No 1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914400" y="228600"/>
            <a:ext cx="7848720" cy="91440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op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ffffff"/>
                </a:solidFill>
                <a:latin typeface="Comic Sans MS"/>
              </a:rPr>
              <a:t>(% of respondents who state that an initiative is very important or important)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59" name=""/>
          <p:cNvGrpSpPr/>
          <p:nvPr/>
        </p:nvGrpSpPr>
        <p:grpSpPr>
          <a:xfrm>
            <a:off x="609480" y="1295280"/>
            <a:ext cx="8534520" cy="914400"/>
            <a:chOff x="609480" y="1295280"/>
            <a:chExt cx="8534520" cy="914400"/>
          </a:xfrm>
        </p:grpSpPr>
        <p:sp>
          <p:nvSpPr>
            <p:cNvPr id="260" name=""/>
            <p:cNvSpPr/>
            <p:nvPr/>
          </p:nvSpPr>
          <p:spPr>
            <a:xfrm>
              <a:off x="1981080" y="1295280"/>
              <a:ext cx="71629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.  A program to improve the quality of lake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09480" y="1295280"/>
              <a:ext cx="121932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75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1143000" y="2362320"/>
            <a:ext cx="8229600" cy="868320"/>
            <a:chOff x="1143000" y="2362320"/>
            <a:chExt cx="8229600" cy="868320"/>
          </a:xfrm>
        </p:grpSpPr>
        <p:sp>
          <p:nvSpPr>
            <p:cNvPr id="263" name=""/>
            <p:cNvSpPr/>
            <p:nvPr/>
          </p:nvSpPr>
          <p:spPr>
            <a:xfrm>
              <a:off x="2514600" y="2362320"/>
              <a:ext cx="685800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2. Burying power lines throughout the city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1143000" y="2362320"/>
              <a:ext cx="1219320" cy="86832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5" name=""/>
          <p:cNvGrpSpPr/>
          <p:nvPr/>
        </p:nvGrpSpPr>
        <p:grpSpPr>
          <a:xfrm>
            <a:off x="533520" y="3429000"/>
            <a:ext cx="7924680" cy="914400"/>
            <a:chOff x="533520" y="3429000"/>
            <a:chExt cx="7924680" cy="914400"/>
          </a:xfrm>
        </p:grpSpPr>
        <p:sp>
          <p:nvSpPr>
            <p:cNvPr id="266" name=""/>
            <p:cNvSpPr/>
            <p:nvPr/>
          </p:nvSpPr>
          <p:spPr>
            <a:xfrm>
              <a:off x="1905120" y="3429000"/>
              <a:ext cx="655308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3. More recreational programs for youth between 12 and 18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33520" y="3429000"/>
              <a:ext cx="1218960" cy="91440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2.3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68" name=""/>
          <p:cNvGrpSpPr/>
          <p:nvPr/>
        </p:nvGrpSpPr>
        <p:grpSpPr>
          <a:xfrm>
            <a:off x="1143000" y="4572000"/>
            <a:ext cx="7924680" cy="868320"/>
            <a:chOff x="1143000" y="4572000"/>
            <a:chExt cx="7924680" cy="868320"/>
          </a:xfrm>
        </p:grpSpPr>
        <p:sp>
          <p:nvSpPr>
            <p:cNvPr id="269" name=""/>
            <p:cNvSpPr/>
            <p:nvPr/>
          </p:nvSpPr>
          <p:spPr>
            <a:xfrm>
              <a:off x="2514600" y="4572000"/>
              <a:ext cx="655308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4. Improvements to the 17-92 corridor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143000" y="4572000"/>
              <a:ext cx="1219320" cy="86832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60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1" name=""/>
          <p:cNvGrpSpPr/>
          <p:nvPr/>
        </p:nvGrpSpPr>
        <p:grpSpPr>
          <a:xfrm>
            <a:off x="457200" y="5638680"/>
            <a:ext cx="8305920" cy="914400"/>
            <a:chOff x="457200" y="5638680"/>
            <a:chExt cx="8305920" cy="914400"/>
          </a:xfrm>
        </p:grpSpPr>
        <p:sp>
          <p:nvSpPr>
            <p:cNvPr id="272" name=""/>
            <p:cNvSpPr/>
            <p:nvPr/>
          </p:nvSpPr>
          <p:spPr>
            <a:xfrm>
              <a:off x="1828800" y="5638680"/>
              <a:ext cx="6934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5. More recreational programs for children between 6 and 11 years of age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57200" y="5638680"/>
              <a:ext cx="1219320" cy="9144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8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914400" y="228600"/>
            <a:ext cx="7848720" cy="762120"/>
          </a:xfrm>
          <a:prstGeom prst="rect">
            <a:avLst/>
          </a:prstGeom>
          <a:noFill/>
          <a:ln w="12600">
            <a:solidFill>
              <a:srgbClr val="996633"/>
            </a:solidFill>
            <a:miter/>
          </a:ln>
          <a:effectLst>
            <a:outerShdw dist="153753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Next 5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75" name=""/>
          <p:cNvGrpSpPr/>
          <p:nvPr/>
        </p:nvGrpSpPr>
        <p:grpSpPr>
          <a:xfrm>
            <a:off x="533520" y="1219320"/>
            <a:ext cx="8076960" cy="914400"/>
            <a:chOff x="533520" y="1219320"/>
            <a:chExt cx="8076960" cy="914400"/>
          </a:xfrm>
        </p:grpSpPr>
        <p:sp>
          <p:nvSpPr>
            <p:cNvPr id="276" name=""/>
            <p:cNvSpPr/>
            <p:nvPr/>
          </p:nvSpPr>
          <p:spPr>
            <a:xfrm>
              <a:off x="1905120" y="1219320"/>
              <a:ext cx="67053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6. Improve the appearance of Downtown Maitland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33520" y="1219320"/>
              <a:ext cx="1218960" cy="914400"/>
            </a:xfrm>
            <a:prstGeom prst="rect">
              <a:avLst/>
            </a:prstGeom>
            <a:solidFill>
              <a:srgbClr val="b09800"/>
            </a:solidFill>
            <a:ln w="57240">
              <a:solidFill>
                <a:srgbClr val="996633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ct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8.5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8" name=""/>
          <p:cNvGrpSpPr/>
          <p:nvPr/>
        </p:nvGrpSpPr>
        <p:grpSpPr>
          <a:xfrm>
            <a:off x="990720" y="2362320"/>
            <a:ext cx="7467480" cy="914400"/>
            <a:chOff x="990720" y="2362320"/>
            <a:chExt cx="7467480" cy="914400"/>
          </a:xfrm>
        </p:grpSpPr>
        <p:sp>
          <p:nvSpPr>
            <p:cNvPr id="279" name=""/>
            <p:cNvSpPr/>
            <p:nvPr/>
          </p:nvSpPr>
          <p:spPr>
            <a:xfrm>
              <a:off x="2362320" y="2362320"/>
              <a:ext cx="609588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7. Adding new sidewalks where none currently exist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990720" y="2362320"/>
              <a:ext cx="1218960" cy="914400"/>
            </a:xfrm>
            <a:prstGeom prst="rect">
              <a:avLst/>
            </a:prstGeom>
            <a:solidFill>
              <a:srgbClr val="9933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4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457200" y="3505320"/>
            <a:ext cx="6477120" cy="868320"/>
            <a:chOff x="457200" y="3505320"/>
            <a:chExt cx="6477120" cy="868320"/>
          </a:xfrm>
        </p:grpSpPr>
        <p:sp>
          <p:nvSpPr>
            <p:cNvPr id="282" name=""/>
            <p:cNvSpPr/>
            <p:nvPr/>
          </p:nvSpPr>
          <p:spPr>
            <a:xfrm>
              <a:off x="1828800" y="3505320"/>
              <a:ext cx="51055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8. Improving existing sidewalk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457200" y="3505320"/>
              <a:ext cx="1219320" cy="868320"/>
            </a:xfrm>
            <a:prstGeom prst="rect">
              <a:avLst/>
            </a:prstGeom>
            <a:solidFill>
              <a:srgbClr val="00808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3.6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914400" y="4572000"/>
            <a:ext cx="8001000" cy="914400"/>
            <a:chOff x="914400" y="4572000"/>
            <a:chExt cx="8001000" cy="914400"/>
          </a:xfrm>
        </p:grpSpPr>
        <p:sp>
          <p:nvSpPr>
            <p:cNvPr id="285" name=""/>
            <p:cNvSpPr/>
            <p:nvPr/>
          </p:nvSpPr>
          <p:spPr>
            <a:xfrm>
              <a:off x="2286000" y="4572000"/>
              <a:ext cx="662940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9. Increased City of Maitland involvement in regional transportation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914400" y="4572000"/>
              <a:ext cx="1219320" cy="914400"/>
            </a:xfrm>
            <a:prstGeom prst="rect">
              <a:avLst/>
            </a:prstGeom>
            <a:solidFill>
              <a:srgbClr val="827c66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 algn="r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57.2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457200" y="5791320"/>
            <a:ext cx="7848720" cy="914040"/>
            <a:chOff x="457200" y="5791320"/>
            <a:chExt cx="7848720" cy="914040"/>
          </a:xfrm>
        </p:grpSpPr>
        <p:sp>
          <p:nvSpPr>
            <p:cNvPr id="288" name=""/>
            <p:cNvSpPr/>
            <p:nvPr/>
          </p:nvSpPr>
          <p:spPr>
            <a:xfrm>
              <a:off x="1828800" y="5791320"/>
              <a:ext cx="6477120" cy="91080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700" spc="-1" strike="noStrike">
                  <a:solidFill>
                    <a:srgbClr val="ffffff"/>
                  </a:solidFill>
                  <a:latin typeface="Arial"/>
                </a:rPr>
                <a:t>10. Expanding the Library to increase holdings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" y="5791320"/>
              <a:ext cx="1219320" cy="914040"/>
            </a:xfrm>
            <a:prstGeom prst="rect">
              <a:avLst/>
            </a:prstGeom>
            <a:solidFill>
              <a:srgbClr val="808000"/>
            </a:solidFill>
            <a:ln w="57240">
              <a:solidFill>
                <a:srgbClr val="9966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marL="457200" indent="-457200">
                <a:lnSpc>
                  <a:spcPct val="100000"/>
                </a:lnSpc>
                <a:spcBef>
                  <a:spcPts val="1687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ffffff"/>
                  </a:solidFill>
                  <a:latin typeface="Arial"/>
                </a:rPr>
                <a:t>49.4%</a:t>
              </a:r>
              <a:endParaRPr b="0" lang="en-US" sz="27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914400" y="380880"/>
            <a:ext cx="784872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pport for Municipal Initiativ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85800" y="5715000"/>
            <a:ext cx="8153280" cy="82404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Improving appearance of 17-92 through landscaping/medians/sidewalks was asked using the following scale: very important/important/somewhat important/not important/can’t say. All other items based on: yes/no/can’t say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066680" y="1371600"/>
            <a:ext cx="746784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upport for Municipal Initiatives compared to support if taxes were to increa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293" name=""/>
          <p:cNvGraphicFramePr/>
          <p:nvPr/>
        </p:nvGraphicFramePr>
        <p:xfrm>
          <a:off x="228600" y="1523880"/>
          <a:ext cx="8915400" cy="4338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29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23880"/>
                    <a:ext cx="8915400" cy="4338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36576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Britannic Bold"/>
              </a:rPr>
              <a:t>Citizen Survey Summar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040" y="1752480"/>
            <a:ext cx="7543800" cy="24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escribes the methodology used to conduct the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Displays the highlights of the 2001 Citizen Survey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95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ffffff"/>
                </a:solidFill>
                <a:latin typeface="Arial"/>
              </a:rPr>
              <a:t>Provides General Conclusion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762120"/>
            <a:ext cx="7848720" cy="75888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This Present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1" name="cc-mastplan25" descr=""/>
          <p:cNvPicPr/>
          <p:nvPr/>
        </p:nvPicPr>
        <p:blipFill>
          <a:blip r:embed="rId1"/>
          <a:stretch/>
        </p:blipFill>
        <p:spPr>
          <a:xfrm>
            <a:off x="632448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2" name="summit_parking12" descr=""/>
          <p:cNvPicPr/>
          <p:nvPr/>
        </p:nvPicPr>
        <p:blipFill>
          <a:blip r:embed="rId2"/>
          <a:stretch/>
        </p:blipFill>
        <p:spPr>
          <a:xfrm>
            <a:off x="685800" y="4495680"/>
            <a:ext cx="2590920" cy="19432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  <p:pic>
        <p:nvPicPr>
          <p:cNvPr id="103" name="cc-mastplan11" descr=""/>
          <p:cNvPicPr/>
          <p:nvPr/>
        </p:nvPicPr>
        <p:blipFill>
          <a:blip r:embed="rId3"/>
          <a:stretch/>
        </p:blipFill>
        <p:spPr>
          <a:xfrm>
            <a:off x="3508200" y="4495680"/>
            <a:ext cx="2587680" cy="1941480"/>
          </a:xfrm>
          <a:prstGeom prst="rect">
            <a:avLst/>
          </a:prstGeom>
          <a:ln w="9360">
            <a:solidFill>
              <a:srgbClr val="996633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/>
          </p:nvPr>
        </p:nvSpPr>
        <p:spPr>
          <a:xfrm>
            <a:off x="838080" y="38052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1066680" y="1376280"/>
            <a:ext cx="7467840" cy="82548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4.1% of residents have had contact with the City within the last 6 month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362320" y="2743200"/>
            <a:ext cx="6248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courtesy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533520" y="2362320"/>
            <a:ext cx="1676160" cy="167616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2.3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7086600" y="3886200"/>
            <a:ext cx="1676520" cy="1676520"/>
          </a:xfrm>
          <a:prstGeom prst="irregularSeal1">
            <a:avLst/>
          </a:prstGeom>
          <a:solidFill>
            <a:srgbClr val="996633"/>
          </a:solidFill>
          <a:ln w="1260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85.9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04920" y="4267080"/>
            <a:ext cx="6705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Rate the helpfulness of City of Maitland employees as very good or good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914400" y="5856840"/>
            <a:ext cx="7467480" cy="703800"/>
          </a:xfrm>
          <a:prstGeom prst="rect">
            <a:avLst/>
          </a:prstGeom>
          <a:solidFill>
            <a:srgbClr val="993300"/>
          </a:solidFill>
          <a:ln w="1260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60.6% resident had contact with the City in person, 30.3% by phone,3% e-mail, 3.5% mail, 2.6% oth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ommunication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362320" y="5105520"/>
            <a:ext cx="624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ate the Tempo, the City’s newsletter as very good or good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1295280" y="6248520"/>
            <a:ext cx="7010640" cy="398880"/>
          </a:xfrm>
          <a:prstGeom prst="rect">
            <a:avLst/>
          </a:prstGeom>
          <a:solidFill>
            <a:srgbClr val="827c66"/>
          </a:solidFill>
          <a:ln w="93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1.5% of respondents have no opinion regarding the Tempo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54840" y="5167080"/>
            <a:ext cx="1630440" cy="714240"/>
          </a:xfrm>
          <a:prstGeom prst="ellipse">
            <a:avLst/>
          </a:prstGeom>
          <a:gradFill rotWithShape="0">
            <a:gsLst>
              <a:gs pos="0">
                <a:srgbClr val="3b0000"/>
              </a:gs>
              <a:gs pos="50000">
                <a:srgbClr val="800000"/>
              </a:gs>
              <a:gs pos="100000">
                <a:srgbClr val="3b00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ffffff"/>
                </a:solidFill>
                <a:latin typeface="Arial"/>
              </a:rPr>
              <a:t>65.4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38080" y="1447920"/>
            <a:ext cx="7848720" cy="70380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ents preference on method of communication to learn about the cit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380880" y="1828800"/>
          <a:ext cx="7162920" cy="3573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828800"/>
                    <a:ext cx="7162920" cy="3573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6553080" y="2743200"/>
            <a:ext cx="2590920" cy="871560"/>
          </a:xfrm>
          <a:prstGeom prst="rect">
            <a:avLst/>
          </a:prstGeom>
          <a:solidFill>
            <a:srgbClr val="b09800"/>
          </a:solidFill>
          <a:ln w="936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ffffff"/>
                </a:solidFill>
                <a:latin typeface="Arial"/>
              </a:rPr>
              <a:t>72.8% no opinion/don’t know when asked to rate the City Website</a:t>
            </a:r>
            <a:endParaRPr b="0" lang="en-US" sz="17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990720" y="2133720"/>
            <a:ext cx="7467480" cy="236196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76320">
            <a:solidFill>
              <a:srgbClr val="b09800"/>
            </a:solidFill>
            <a:miter/>
          </a:ln>
          <a:effectLst>
            <a:outerShdw dist="17819" dir="2700000" blurRad="0" rotWithShape="0">
              <a:srgbClr val="695a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ffffff"/>
                </a:solidFill>
                <a:latin typeface="Freestyle Script"/>
              </a:rPr>
              <a:t>The End</a:t>
            </a:r>
            <a:endParaRPr b="0" lang="en-US" sz="7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457200" y="30492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he following individuals supported to this project:</a:t>
            </a: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380880" y="914400"/>
            <a:ext cx="8763120" cy="1905120"/>
          </a:xfrm>
          <a:prstGeom prst="rect">
            <a:avLst/>
          </a:prstGeom>
          <a:gradFill rotWithShape="0">
            <a:gsLst>
              <a:gs pos="0">
                <a:srgbClr val="462f17"/>
              </a:gs>
              <a:gs pos="5000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99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Evan Berma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Ph.D., who conducted and presented the survey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Amy Eastin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Analyst, who developed these slides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Michelle delValle</a:t>
            </a: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, OMB Manager, who oversaw this project</a:t>
            </a:r>
            <a:endParaRPr b="0" lang="en-US" sz="2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114800" y="434340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ean Spragu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314" name=""/>
          <p:cNvGraphicFramePr/>
          <p:nvPr/>
        </p:nvGraphicFramePr>
        <p:xfrm>
          <a:off x="838080" y="3200400"/>
          <a:ext cx="2757600" cy="337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3200400"/>
                    <a:ext cx="2757600" cy="3375000"/>
                  </a:xfrm>
                  <a:prstGeom prst="rect">
                    <a:avLst/>
                  </a:prstGeom>
                  <a:ln w="5724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6" name="Brian%20Jones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14720" cy="3159000"/>
          </a:xfrm>
          <a:prstGeom prst="rect">
            <a:avLst/>
          </a:prstGeom>
          <a:ln w="57240">
            <a:solidFill>
              <a:srgbClr val="996633"/>
            </a:solidFill>
            <a:miter/>
          </a:ln>
        </p:spPr>
      </p:pic>
      <p:sp>
        <p:nvSpPr>
          <p:cNvPr id="317" name=""/>
          <p:cNvSpPr/>
          <p:nvPr/>
        </p:nvSpPr>
        <p:spPr>
          <a:xfrm>
            <a:off x="3886200" y="1066680"/>
            <a:ext cx="2362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ian Jone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Assistant City Manag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38080" y="2819520"/>
            <a:ext cx="7848720" cy="368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onna William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ity Clerk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Lynda Dennis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nance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David Tomek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Community Development Director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Edward Doyl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olice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ief Dan Hardester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Fire &amp; Building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Christen Smith,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Parks &amp; Recreation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Tony Leffin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, Public Works Department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/>
          </p:nvPr>
        </p:nvSpPr>
        <p:spPr>
          <a:xfrm>
            <a:off x="609120" y="304560"/>
            <a:ext cx="8153640" cy="11430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of Maitland Mayor and Counc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0" name="groupcouncilphoto" descr=""/>
          <p:cNvPicPr/>
          <p:nvPr/>
        </p:nvPicPr>
        <p:blipFill>
          <a:blip r:embed="rId1"/>
          <a:stretch/>
        </p:blipFill>
        <p:spPr>
          <a:xfrm>
            <a:off x="762120" y="1782720"/>
            <a:ext cx="5333760" cy="4270320"/>
          </a:xfrm>
          <a:prstGeom prst="rect">
            <a:avLst/>
          </a:prstGeom>
          <a:ln w="57240">
            <a:solidFill>
              <a:srgbClr val="800000"/>
            </a:solidFill>
            <a:miter/>
          </a:ln>
        </p:spPr>
      </p:pic>
      <p:grpSp>
        <p:nvGrpSpPr>
          <p:cNvPr id="321" name=""/>
          <p:cNvGrpSpPr/>
          <p:nvPr/>
        </p:nvGrpSpPr>
        <p:grpSpPr>
          <a:xfrm>
            <a:off x="6248520" y="1905120"/>
            <a:ext cx="2895480" cy="3980160"/>
            <a:chOff x="6248520" y="1905120"/>
            <a:chExt cx="2895480" cy="3980160"/>
          </a:xfrm>
        </p:grpSpPr>
        <p:sp>
          <p:nvSpPr>
            <p:cNvPr id="322" name=""/>
            <p:cNvSpPr/>
            <p:nvPr/>
          </p:nvSpPr>
          <p:spPr>
            <a:xfrm>
              <a:off x="6248520" y="1905120"/>
              <a:ext cx="2895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Mayor, Sascha Rizzo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6553080" y="251460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Vice Mayor, Keith Whit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553080" y="3352680"/>
              <a:ext cx="22860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Tom Holley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53080" y="419112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Rick Baldocchi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553080" y="5181480"/>
              <a:ext cx="2210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Councilman,   Dr. David Libert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761760" y="685440"/>
            <a:ext cx="784836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lIns="90000" rIns="90000" tIns="46800" bIns="46800" anchor="ctr">
            <a:normAutofit/>
          </a:bodyPr>
          <a:p>
            <a:pPr marL="343080" indent="0" algn="ctr">
              <a:lnSpc>
                <a:spcPct val="90000"/>
              </a:lnSpc>
              <a:spcBef>
                <a:spcPts val="33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500" spc="-1" strike="noStrike">
                <a:solidFill>
                  <a:srgbClr val="ffffff"/>
                </a:solidFill>
                <a:latin typeface="Freestyle Script"/>
              </a:rPr>
              <a:t>Why a survey?  </a:t>
            </a:r>
            <a:endParaRPr b="0" lang="en-US" sz="4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295280" y="2133720"/>
            <a:ext cx="701064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Provides the City with citizen perception of community conditions and municipal services that can be used for strengthening existing programs and developing new efforts.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6" name="ph01992j" descr=""/>
          <p:cNvPicPr/>
          <p:nvPr/>
        </p:nvPicPr>
        <p:blipFill>
          <a:blip r:embed="rId1"/>
          <a:stretch/>
        </p:blipFill>
        <p:spPr>
          <a:xfrm>
            <a:off x="6477120" y="5181480"/>
            <a:ext cx="968400" cy="14623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7" name="ph01975j" descr=""/>
          <p:cNvPicPr/>
          <p:nvPr/>
        </p:nvPicPr>
        <p:blipFill>
          <a:blip r:embed="rId2"/>
          <a:stretch/>
        </p:blipFill>
        <p:spPr>
          <a:xfrm>
            <a:off x="5105520" y="5181480"/>
            <a:ext cx="965160" cy="144792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8" name="ph01984j" descr=""/>
          <p:cNvPicPr/>
          <p:nvPr/>
        </p:nvPicPr>
        <p:blipFill>
          <a:blip r:embed="rId3"/>
          <a:stretch/>
        </p:blipFill>
        <p:spPr>
          <a:xfrm>
            <a:off x="37339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  <p:pic>
        <p:nvPicPr>
          <p:cNvPr id="109" name="ph02019j" descr=""/>
          <p:cNvPicPr/>
          <p:nvPr/>
        </p:nvPicPr>
        <p:blipFill>
          <a:blip r:embed="rId4"/>
          <a:stretch/>
        </p:blipFill>
        <p:spPr>
          <a:xfrm>
            <a:off x="2362320" y="5181480"/>
            <a:ext cx="968400" cy="1467000"/>
          </a:xfrm>
          <a:prstGeom prst="rect">
            <a:avLst/>
          </a:prstGeom>
          <a:ln w="12600">
            <a:solidFill>
              <a:srgbClr val="827c66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838080" y="456840"/>
            <a:ext cx="7848720" cy="76212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How Survey was conducte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90720" y="1523880"/>
            <a:ext cx="7467480" cy="487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urvey was developed with input from city government staff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me items based on the 1996 survey (comparison)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ata were collected through telephone interview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andom dialing was used to ensure a valid sample (representative) of City of Maitland residen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624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ample size is 330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2" name="bs00243_" descr=""/>
          <p:cNvPicPr/>
          <p:nvPr/>
        </p:nvPicPr>
        <p:blipFill>
          <a:blip r:embed="rId1"/>
          <a:stretch/>
        </p:blipFill>
        <p:spPr>
          <a:xfrm>
            <a:off x="7543800" y="4800600"/>
            <a:ext cx="1320840" cy="179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304920"/>
            <a:ext cx="7848720" cy="76176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Survey Methodolog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14" name=""/>
          <p:cNvGraphicFramePr/>
          <p:nvPr/>
        </p:nvGraphicFramePr>
        <p:xfrm>
          <a:off x="685800" y="1371600"/>
          <a:ext cx="8077320" cy="240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1371600"/>
                    <a:ext cx="8077320" cy="240660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16" name=""/>
          <p:cNvGraphicFramePr/>
          <p:nvPr/>
        </p:nvGraphicFramePr>
        <p:xfrm>
          <a:off x="1066680" y="4038480"/>
          <a:ext cx="7239240" cy="150336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66680" y="4038480"/>
                    <a:ext cx="7239240" cy="1503360"/>
                  </a:xfrm>
                  <a:prstGeom prst="rect">
                    <a:avLst/>
                  </a:prstGeom>
                  <a:ln w="76320">
                    <a:solidFill>
                      <a:srgbClr val="996633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18" name=""/>
          <p:cNvSpPr/>
          <p:nvPr/>
        </p:nvSpPr>
        <p:spPr>
          <a:xfrm>
            <a:off x="762120" y="5867280"/>
            <a:ext cx="7772400" cy="762120"/>
          </a:xfrm>
          <a:prstGeom prst="rect">
            <a:avLst/>
          </a:prstGeom>
          <a:solidFill>
            <a:srgbClr val="996633"/>
          </a:solidFill>
          <a:ln w="0">
            <a:noFill/>
          </a:ln>
          <a:effectLst>
            <a:outerShdw dist="17819" dir="2700000" blurRad="0" rotWithShape="0">
              <a:srgbClr val="5b3c1e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te: Preliminary 2000 census data for population and race data. No census data exists regarding distribution of residents in different districts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914040" y="304560"/>
            <a:ext cx="7940520" cy="7030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txBody>
          <a:bodyPr anchor="ctr">
            <a:normAutofit/>
          </a:bodyPr>
          <a:p>
            <a:pPr marL="343080" indent="0" algn="ctr">
              <a:lnSpc>
                <a:spcPct val="100000"/>
              </a:lnSpc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Demographics  Captured by the Survey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971800" y="1371600"/>
            <a:ext cx="601992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How long respondent has lived in Maitland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1371600"/>
            <a:ext cx="2286000" cy="762120"/>
          </a:xfrm>
          <a:prstGeom prst="rect">
            <a:avLst/>
          </a:prstGeom>
          <a:gradFill rotWithShape="0">
            <a:gsLst>
              <a:gs pos="0">
                <a:srgbClr val="996633"/>
              </a:gs>
              <a:gs pos="100000">
                <a:srgbClr val="462f17"/>
              </a:gs>
            </a:gsLst>
            <a:lin ang="5400000"/>
          </a:gradFill>
          <a:ln w="57240">
            <a:solidFill>
              <a:srgbClr val="0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Mean 17.4 yrs</a:t>
            </a:r>
            <a:endParaRPr b="0" lang="en-US" sz="2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3520" y="5181480"/>
            <a:ext cx="6476760" cy="75888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pondents who have children under 18 years old living at h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86600" y="5181480"/>
            <a:ext cx="1600200" cy="7621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34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822320" y="6073920"/>
            <a:ext cx="205740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any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956040" y="6073920"/>
            <a:ext cx="1981080" cy="639720"/>
          </a:xfrm>
          <a:prstGeom prst="rect">
            <a:avLst/>
          </a:prstGeom>
          <a:solidFill>
            <a:srgbClr val="993300"/>
          </a:solidFill>
          <a:ln w="57240">
            <a:solidFill>
              <a:srgbClr val="827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1.8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19320" y="2438280"/>
            <a:ext cx="2209680" cy="114300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 much formal schooling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581280" y="2438280"/>
            <a:ext cx="5029200" cy="2590920"/>
          </a:xfrm>
          <a:prstGeom prst="rect">
            <a:avLst/>
          </a:prstGeom>
          <a:gradFill rotWithShape="0">
            <a:gsLst>
              <a:gs pos="0">
                <a:srgbClr val="3b392f"/>
              </a:gs>
              <a:gs pos="50000">
                <a:srgbClr val="827c66"/>
              </a:gs>
              <a:gs pos="100000">
                <a:srgbClr val="3b392f"/>
              </a:gs>
            </a:gsLst>
            <a:lin ang="5400000"/>
          </a:gradFill>
          <a:ln w="5724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ess than HS .6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igh School 1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ome College 23.7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llege Graduate 38.2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raduate or Professional Degree 25.5%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219320" y="3733920"/>
            <a:ext cx="2209680" cy="990360"/>
          </a:xfrm>
          <a:prstGeom prst="rect">
            <a:avLst/>
          </a:prstGeom>
          <a:solidFill>
            <a:srgbClr val="b09800"/>
          </a:solidFill>
          <a:ln w="5724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ean Incom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$63,750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2590920" y="1447560"/>
            <a:ext cx="594360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Residents feel the quality of life in Maitland is very good or good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45720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Quality of Life in Maitlan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743200" y="2514600"/>
            <a:ext cx="5638680" cy="36828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arly identical with the 1996 survey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62120" y="1447920"/>
            <a:ext cx="1523880" cy="1066680"/>
          </a:xfrm>
          <a:prstGeom prst="bevel">
            <a:avLst>
              <a:gd name="adj" fmla="val 12500"/>
            </a:avLst>
          </a:prstGeom>
          <a:gradFill rotWithShape="0">
            <a:gsLst>
              <a:gs pos="0">
                <a:srgbClr val="514600"/>
              </a:gs>
              <a:gs pos="50000">
                <a:srgbClr val="b09800"/>
              </a:gs>
              <a:gs pos="100000">
                <a:srgbClr val="514600"/>
              </a:gs>
            </a:gsLst>
            <a:lin ang="5400000"/>
          </a:gradFill>
          <a:ln w="414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Arial"/>
              </a:rPr>
              <a:t>95.5%</a:t>
            </a:r>
            <a:endParaRPr b="0" lang="en-US" sz="27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6629400" y="3048120"/>
            <a:ext cx="251460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1999 Orange County and 2000 City of Eustis Survey asked how much citizens agreed with the statement “the quality of life in Orange County/City of Eustis is good.”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04920" y="2971800"/>
          <a:ext cx="6476760" cy="3220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2971800"/>
                    <a:ext cx="6476760" cy="3220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6" name=""/>
          <p:cNvSpPr/>
          <p:nvPr/>
        </p:nvSpPr>
        <p:spPr>
          <a:xfrm>
            <a:off x="1676520" y="6324480"/>
            <a:ext cx="60958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ta based on respondents who have an opinio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838080" y="533520"/>
            <a:ext cx="7848720" cy="685800"/>
          </a:xfrm>
          <a:prstGeom prst="rect">
            <a:avLst/>
          </a:prstGeom>
          <a:solidFill>
            <a:srgbClr val="827c66"/>
          </a:solidFill>
          <a:ln w="1908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Maitland as a who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990720" y="1447920"/>
            <a:ext cx="723888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1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Nearly half of the residents response to how they feel “The City of Maitland as a whole is” </a:t>
            </a:r>
            <a:r>
              <a:rPr b="0" lang="en-US" sz="2900" spc="-1" strike="noStrike">
                <a:solidFill>
                  <a:srgbClr val="f4e300"/>
                </a:solidFill>
                <a:latin typeface="Impact"/>
              </a:rPr>
              <a:t>getting better</a:t>
            </a: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9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39" name=""/>
          <p:cNvGraphicFramePr/>
          <p:nvPr/>
        </p:nvGraphicFramePr>
        <p:xfrm>
          <a:off x="990720" y="2895480"/>
          <a:ext cx="7924680" cy="39625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95480"/>
                    <a:ext cx="7924680" cy="3962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23f3f"/>
            </a:gs>
            <a:gs pos="100000">
              <a:srgbClr val="068a8a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1" name=""/>
          <p:cNvGraphicFramePr/>
          <p:nvPr/>
        </p:nvGraphicFramePr>
        <p:xfrm>
          <a:off x="838080" y="2819520"/>
          <a:ext cx="7772400" cy="35812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819520"/>
                    <a:ext cx="7772400" cy="35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990720" y="304920"/>
            <a:ext cx="7848360" cy="68580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Comic Sans MS"/>
              </a:rPr>
              <a:t>City Govern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990720" y="1143000"/>
            <a:ext cx="5943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esidents trust city government to do what is right most of th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934320" y="1219320"/>
            <a:ext cx="1371600" cy="9144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461700"/>
              </a:gs>
              <a:gs pos="50000">
                <a:srgbClr val="993300"/>
              </a:gs>
              <a:gs pos="100000">
                <a:srgbClr val="461700"/>
              </a:gs>
            </a:gsLst>
            <a:lin ang="5400000"/>
          </a:gra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83.7%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371680" y="6080040"/>
            <a:ext cx="5113440" cy="92160"/>
          </a:xfrm>
          <a:custGeom>
            <a:avLst/>
            <a:gdLst/>
            <a:ahLst/>
            <a:rect l="l" t="t" r="r" b="b"/>
            <a:pathLst>
              <a:path w="3221" h="58">
                <a:moveTo>
                  <a:pt x="0" y="58"/>
                </a:moveTo>
                <a:lnTo>
                  <a:pt x="3139" y="58"/>
                </a:lnTo>
                <a:lnTo>
                  <a:pt x="3221" y="0"/>
                </a:lnTo>
                <a:lnTo>
                  <a:pt x="82" y="0"/>
                </a:lnTo>
                <a:lnTo>
                  <a:pt x="0" y="5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360" bIns="4536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7" name=""/>
          <p:cNvGrpSpPr/>
          <p:nvPr/>
        </p:nvGrpSpPr>
        <p:grpSpPr>
          <a:xfrm>
            <a:off x="2286000" y="5749920"/>
            <a:ext cx="4853520" cy="457200"/>
            <a:chOff x="2286000" y="5749920"/>
            <a:chExt cx="4853520" cy="457200"/>
          </a:xfrm>
        </p:grpSpPr>
        <p:sp>
          <p:nvSpPr>
            <p:cNvPr id="148" name=""/>
            <p:cNvSpPr/>
            <p:nvPr/>
          </p:nvSpPr>
          <p:spPr>
            <a:xfrm>
              <a:off x="22860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23064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2307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521352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621360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139160" y="5749920"/>
              <a:ext cx="36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143000" y="2362320"/>
            <a:ext cx="7467480" cy="459720"/>
          </a:xfrm>
          <a:prstGeom prst="rect">
            <a:avLst/>
          </a:prstGeom>
          <a:solidFill>
            <a:srgbClr val="993300"/>
          </a:solidFill>
          <a:ln w="9360">
            <a:solidFill>
              <a:srgbClr val="b098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ust in Government Comparis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219320" y="6248520"/>
            <a:ext cx="7010280" cy="337320"/>
          </a:xfrm>
          <a:prstGeom prst="rect">
            <a:avLst/>
          </a:prstGeom>
          <a:solidFill>
            <a:srgbClr val="827c66"/>
          </a:solidFill>
          <a:ln w="1260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ity of Eustis respondents to question with “strongly agree and agree”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7010280" y="3124080"/>
            <a:ext cx="2133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Maitlan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29400" y="3657600"/>
            <a:ext cx="1905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ity of Eusti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4419720" y="411480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4267080" y="4648320"/>
            <a:ext cx="1981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419720" y="5181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ate of Florid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5-29T13:12:52Z</dcterms:created>
  <dc:creator>Amy</dc:creator>
  <dc:description/>
  <dc:language>en-US</dc:language>
  <cp:lastModifiedBy>Congessional Quarterly</cp:lastModifiedBy>
  <dcterms:modified xsi:type="dcterms:W3CDTF">2001-08-03T13:02:26Z</dcterms:modified>
  <cp:revision>154</cp:revision>
  <dc:subject/>
  <dc:title>PowerPoint Presentation</dc:title>
</cp:coreProperties>
</file>